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6A7-EE7F-4CA0-9D2E-2803E93D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06C-8A07-4A03-BBFB-2AAC06EA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EE9-46B3-4F09-B41F-E10CB7A9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979-834F-49DA-A4AB-A08CB5FF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E2C-E830-4267-ABD5-195C36DA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DEA-5589-4CD8-B722-ABAA682F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164-19C6-4C53-8234-E002A789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AE3-704A-476E-A3DC-4AA1D70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8D6-D529-4537-9429-2694CC39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9F5-A01F-46E7-B91C-6871D33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31B-C5AB-4B15-9875-CAE84E5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288-5201-4FC0-9155-CC776500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24D-4056-4333-9716-0107F6EC0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87840" y="2765520"/>
            <a:ext cx="5456160" cy="409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26028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 design interesting pictures with 10 d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052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anish flag is red and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8667" b="0"/>
          <a:stretch/>
        </p:blipFill>
        <p:spPr>
          <a:xfrm>
            <a:off x="3456000" y="2187720"/>
            <a:ext cx="5688000" cy="467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18614" b="0"/>
          <a:stretch/>
        </p:blipFill>
        <p:spPr>
          <a:xfrm>
            <a:off x="0" y="0"/>
            <a:ext cx="4248000" cy="39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602136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 write and read numbers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8243" t="0" r="10949" b="0"/>
          <a:stretch/>
        </p:blipFill>
        <p:spPr>
          <a:xfrm>
            <a:off x="4211640" y="2279520"/>
            <a:ext cx="4932360" cy="457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000080" y="83664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d we play games with them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48428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P San Juan Bautista.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5572080"/>
            <a:ext cx="1886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20:40:08Z</dcterms:created>
  <dc:creator>Sobremesa</dc:creator>
  <dc:description/>
  <dc:language>en-US</dc:language>
  <cp:lastModifiedBy>Sobremesa</cp:lastModifiedBy>
  <dcterms:modified xsi:type="dcterms:W3CDTF">2011-09-30T22:54:30Z</dcterms:modified>
  <cp:revision>5</cp:revision>
  <dc:subject/>
  <dc:title>Diapositiva 1</dc:title>
</cp:coreProperties>
</file>